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A1B-8462-4BE7-B358-5315C69D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019-F450-4A1E-A8F2-3BD70998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11F-2950-4A14-89D1-87ABEC77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B29-B814-49E4-878D-96F9DBD3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165-3700-4263-9C82-5F655FE8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300-566C-4F83-A16F-F07D20A7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0E3-3048-4864-91E9-19A03BDA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0988-34B6-486B-99E8-71933C5C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773-5FBF-425C-92F3-63CFC1E5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095-F323-4397-B0F4-C93FF7F4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305-390E-4CB2-9F17-7E3B058C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C8E-08FE-471E-B1AF-1F8C312B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71DA-105B-42BB-AD42-AB5B172A4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-360"/>
            <a:ext cx="32414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Mi presento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sono CRISTINA BROGLIA, una ragazza semplice e sol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8749" t="1969" r="2187" b="1969"/>
          <a:stretch/>
        </p:blipFill>
        <p:spPr>
          <a:xfrm>
            <a:off x="3995640" y="549360"/>
            <a:ext cx="48056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Infine posso dire che nella mia vita, oltre alla mia famiglia, alla quale do un immenso valore, sono sempre presenti e molto importanti le mie amiche; è anche grazie a loro che la mia esistenza si arricchisce di giorno in giorn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407664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Sono nata il 28 Giugno 1989 a Rho, in provincia di Milano. Ora abito con la mia famiglia a Terrazzano, una piccolissima frazione di Rh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2084" r="0" b="6948"/>
          <a:stretch/>
        </p:blipFill>
        <p:spPr>
          <a:xfrm>
            <a:off x="2771640" y="260280"/>
            <a:ext cx="38671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La mia famiglia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Mio padre Luciano, mia madre Marianna e mio fratello maggiore Davi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4206" t="17421" r="12619" b="23227"/>
          <a:stretch/>
        </p:blipFill>
        <p:spPr>
          <a:xfrm>
            <a:off x="5003640" y="2565360"/>
            <a:ext cx="3699000" cy="3821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3678" t="0" r="19149" b="10369"/>
          <a:stretch/>
        </p:blipFill>
        <p:spPr>
          <a:xfrm>
            <a:off x="468360" y="2565360"/>
            <a:ext cx="4032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884" t="23068" r="16148" b="15379"/>
          <a:stretch/>
        </p:blipFill>
        <p:spPr>
          <a:xfrm>
            <a:off x="4356000" y="2133720"/>
            <a:ext cx="4537080" cy="2735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69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Adoro tutti gli </a:t>
            </a: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animali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ma soprattutto cani e gatti. Ho avuto infatti due cani e possiedo tuttora una gat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23180" t="14557" r="11590" b="24262"/>
          <a:stretch/>
        </p:blipFill>
        <p:spPr>
          <a:xfrm>
            <a:off x="395280" y="1773360"/>
            <a:ext cx="2087640" cy="234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3672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252720" y="189000"/>
            <a:ext cx="9396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Poor Richard"/>
              </a:rPr>
              <a:t>Le mie passion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Poor Richard"/>
              </a:rPr>
              <a:t>Mi piace molto viaggiare e conoscere nuovi “mondi”; unisco infatti la mia passione per i viaggi con quella della fotografia che rende unico ogni istante ed ogni luogo da me visitat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40555" r="0" b="9843"/>
          <a:stretch/>
        </p:blipFill>
        <p:spPr>
          <a:xfrm>
            <a:off x="2484360" y="3429000"/>
            <a:ext cx="4176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oor Richard"/>
              </a:rPr>
              <a:t>I miei studi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Non ho un ricordo felicissimo degli anni relativi alla scuola materna, in quanto, essendo molto timida, ho avuto non poche difficoltà a relazionarmi con i miei compagn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7512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4000" y="386028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Iniziando a frequentare le scuole elementari le cose sono migliorate sempre più e mi sono circondata di amic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6815" t="0" r="3408" b="13340"/>
          <a:stretch/>
        </p:blipFill>
        <p:spPr>
          <a:xfrm>
            <a:off x="1835280" y="54936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Terminata la scuola media ho iniziato ad accorgermi della mia passione verso il ramo dell’educazione. Infatti, durante le vacanze estive, ho frequentato l’oratorio feriale come animatrice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79640" y="3352680"/>
            <a:ext cx="49687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a7a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3357360"/>
            <a:ext cx="82296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oor Richard"/>
              </a:rPr>
              <a:t>Dopo aver conseguito il diploma presso il liceo linguistico “G. Falcone e P. Borsellino” mi sono iscritta alla facoltà di Scienze della formazione primaria, dove studio tuttor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4616" r="0" b="7687"/>
          <a:stretch/>
        </p:blipFill>
        <p:spPr>
          <a:xfrm>
            <a:off x="2268360" y="189000"/>
            <a:ext cx="453708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3:40:53Z</dcterms:created>
  <dc:creator>STC</dc:creator>
  <dc:description/>
  <dc:language>en-US</dc:language>
  <cp:lastModifiedBy>STC</cp:lastModifiedBy>
  <dcterms:modified xsi:type="dcterms:W3CDTF">2011-06-09T17:11:25Z</dcterms:modified>
  <cp:revision>6</cp:revision>
  <dc:subject/>
  <dc:title>Mi presento… mi chiamo Cristina Broglia, il mio numero di matricola è 3808033. Vivo a Terrazzano di Rho, in provincia di Milano.</dc:title>
</cp:coreProperties>
</file>